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DCB-9C0F-40B8-9A73-72FEA9E3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3C8-3301-46C9-8118-4BFCC4B9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400-76AC-4BFB-A60F-30B86B37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28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692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28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692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B0A-FED5-47B6-9EDD-3128B58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AE47-21D0-448F-997A-C9AD7F8C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4571-10D1-460E-82D2-1A6269F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385-306D-4984-AA5D-484697CE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49D8-EED8-46C5-B673-8700BEC7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368D-2154-46FF-94B8-66BE3D2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748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0CBA-2CA8-4610-A3A8-7C861B29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A877-F57B-42B3-87D9-0DB00BB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A9A-1F7E-4EC0-BF5B-E152E996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E7D-8C29-4F63-A675-D413D0F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9C3-EFD1-48DB-8734-5C33359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FC8-68CB-4A1A-A17F-DFB0A29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2244-AD1B-4B17-9B23-47196AF8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28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692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28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692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F2F8-D44E-4B19-8FED-9DEBA51D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D11-24B2-488B-ACD7-BF50611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D12-9DDD-4CAD-9135-1CBA06E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372-7458-453B-BAB0-D1AC1491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748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4D5-2B1C-4162-BDC6-22C31FC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A24-F335-44A8-A8E4-0AF63DB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2F1-401C-4FA5-8B82-46CA635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9D9-3659-4109-BFF4-A7E32A9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7FD6E-0FB2-4E78-84FC-F9FBBEF132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3DEF3-CBB4-4FB1-A136-2DDDAE8BA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y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0" y="2514600"/>
            <a:ext cx="5715000" cy="434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73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Divis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971800"/>
            <a:ext cx="84582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64 cat's at the pet  store and there are 8 pens for all the 64 cat's how many cat' can fit in the 64 p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990800"/>
            <a:ext cx="8280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    8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286000"/>
            <a:ext cx="17640" cy="1440"/>
          </a:xfrm>
          <a:custGeom>
            <a:avLst/>
            <a:gdLst/>
            <a:ahLst/>
            <a:rect l="l" t="t" r="r" b="b"/>
            <a:pathLst>
              <a:path w="47" h="1">
                <a:moveTo>
                  <a:pt x="46" y="0"/>
                </a:moveTo>
                <a:lnTo>
                  <a:pt x="2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14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0000" y="3886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0000" y="41148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4:01Z</dcterms:created>
  <dc:creator/>
  <dc:description/>
  <dc:language>en-US</dc:language>
  <cp:lastModifiedBy/>
  <cp:revision>1</cp:revision>
  <dc:subject/>
  <dc:title/>
</cp:coreProperties>
</file>